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1436-0F94-4CEC-8EF6-158C496D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20A-DC94-4D34-93BF-07C94FA0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3F5-7D93-4732-9464-1D8A78DD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7E7-DAF1-45F9-8D6D-796453D0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3267-DA25-4FA8-9328-B446B0DB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9D2B-AF4B-4617-ACF2-5F83E045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4228-DFAE-47AB-B963-CD948706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BFB3-1606-413F-90EF-7B78C441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C1F3-E433-4018-84FC-1C1AA2F0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769160" cy="89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B6A9-FAB4-4FFA-8141-69D8FB4F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7F77-2CA5-49E9-97E4-A6F2F4C9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AB77-79CE-45EF-9789-4DF4BF95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C188-8EC6-4594-9B46-D9FA7F05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9ED1-1DEE-4680-A40E-2285A082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6FE1-1FFC-4002-B4AC-5F251D4B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8085-13E7-4A9D-9324-BC3C3ED2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FDC1-D24B-4600-9225-5CA9EFE8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5025-1CC8-4453-ACF8-BCEFDF11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C47-54E4-4462-A877-F0EB3982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4BD-3AE0-4581-B3D9-951CC0BF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769160" cy="89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77F-2CCF-4FD8-827C-6404E9EC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BF4-0E01-467F-BA7D-3B1CFA26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CF47-4498-4452-88DF-D3135701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A1E8-9130-44AF-A930-6A6B9742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3280" cy="1106280"/>
            <a:chOff x="1071720" y="304920"/>
            <a:chExt cx="761328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124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232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D3B02-45CA-4A15-AD8B-2AF53C4DCD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4C96C-9651-4AF7-9872-9DC236EC4B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Berylium"/>
              </a:rPr>
              <a:t>Information Literacy Less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962160" y="5638320"/>
            <a:ext cx="5181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di Ledebo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Arial"/>
              </a:rPr>
              <a:t>Plagiar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80520" y="198072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lesson goes along with a research project on a famous scientist. We will start the lesson by discussing plagiarism, what it means, why it is so bad, and ways to avoid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300" spc="-1" strike="noStrike">
                <a:solidFill>
                  <a:srgbClr val="9933ff"/>
                </a:solidFill>
                <a:latin typeface="Arial"/>
              </a:rPr>
              <a:t>Note-taking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80520" y="251460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then read two separate articles on bullying and fill in a note-taking graphic organizer to answer the questions: what is bullying, why do kids bully, and what are the sig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700" spc="-1" strike="noStrike">
                <a:solidFill>
                  <a:srgbClr val="9933ff"/>
                </a:solidFill>
                <a:latin typeface="Arial"/>
              </a:rPr>
              <a:t>Evaluation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2590920"/>
            <a:ext cx="8534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part of their original research project, students will be required to fill in a note-taking graphic organizer answering the questions about their famous scientis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20:29:08Z</dcterms:created>
  <dc:creator>jledeboer</dc:creator>
  <dc:description/>
  <dc:language>en-US</dc:language>
  <cp:lastModifiedBy>jledeboer</cp:lastModifiedBy>
  <dcterms:modified xsi:type="dcterms:W3CDTF">2011-02-18T20:40:41Z</dcterms:modified>
  <cp:revision>2</cp:revision>
  <dc:subject/>
  <dc:title>Information Literacy Lesson</dc:title>
</cp:coreProperties>
</file>